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073-598E-4150-8EC5-84E9E308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F89-1E27-4CA8-B7A7-1F9DE580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4C5-BA3D-44F1-B196-F6CDADA1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749-4DB2-4C7C-94D7-AAE1F1A8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1A1-8C64-47E2-864E-AE06EDC2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138-C630-4869-BB45-D6E5F8AC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A53-CB7D-4393-9737-D29ECB6D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8F2-941E-41DC-AEAA-34A938D4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D02-8F6E-46F1-B072-9BF09B35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457-DC2A-45EC-9CAD-ED5450AD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66A-6D72-4B96-AB4C-1BB568CE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AE6-5746-4C79-91F2-D007375B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F821-C6B3-4303-A572-160C761B8B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UnaiponLegendaryTal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87640" y="3789360"/>
            <a:ext cx="3779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David Unaipon in the 1920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133720"/>
            <a:ext cx="2857320" cy="3647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35280" y="476280"/>
            <a:ext cx="540072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0e500"/>
                  </a:solidFill>
                  <a:miter/>
                </a:ln>
                <a:solidFill>
                  <a:srgbClr val="ffffff"/>
                </a:solidFill>
                <a:latin typeface="Edwardian Script ITC"/>
              </a:rPr>
              <a:t>David Unaipon</a:t>
            </a:r>
            <a:endParaRPr b="0" lang="en-US" sz="5400" spc="1" strike="noStrike">
              <a:ln w="9360">
                <a:solidFill>
                  <a:srgbClr val="f0e500"/>
                </a:solidFill>
                <a:miter/>
              </a:ln>
              <a:solidFill>
                <a:srgbClr val="ffffff"/>
              </a:solidFill>
              <a:latin typeface="Edwardian Script ITC"/>
              <a:ea typeface="Edwardian Script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Blackadder ITC"/>
              </a:rPr>
              <a:t>About David Unaip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88000" y="2781000"/>
            <a:ext cx="361296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Born in </a:t>
            </a: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28 September 1872 at the Point McLeay Mission.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A preacher, author and inventor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View of Point Mcleay and Point Sturt"/>
          <p:cNvPicPr/>
          <p:nvPr/>
        </p:nvPicPr>
        <p:blipFill>
          <a:blip r:embed="rId1"/>
          <a:stretch/>
        </p:blipFill>
        <p:spPr>
          <a:xfrm>
            <a:off x="684360" y="1916280"/>
            <a:ext cx="40258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500"/>
                </a:solidFill>
                <a:latin typeface="Blackadder ITC"/>
              </a:rPr>
              <a:t>Career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rte"/>
              </a:rPr>
              <a:t>In 1909, he invent  the handpiece shearing mach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11640" y="5084640"/>
            <a:ext cx="1077840" cy="107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33840" y="1341360"/>
            <a:ext cx="3710160" cy="485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4292640"/>
            <a:ext cx="1950840" cy="1860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68360" y="4724280"/>
            <a:ext cx="2843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the shearing machine tod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5280" y="1844640"/>
            <a:ext cx="44020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Knew as Australia's Leonardo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( inventor and design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1654200" cy="248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437000"/>
            <a:ext cx="4748040" cy="2017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3280" y="4581360"/>
            <a:ext cx="40435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Fort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orte"/>
              </a:rPr>
              <a:t>His picture is on the Fifty Dollar no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0e500"/>
                </a:solidFill>
                <a:latin typeface="Blackadder ITC"/>
              </a:rPr>
              <a:t>Achieve</a:t>
            </a: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76360" y="2133360"/>
            <a:ext cx="4475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In 1953, he received the Coronation Medal by </a:t>
            </a:r>
            <a:r>
              <a:rPr b="0" lang="en" sz="2400" spc="-1" strike="noStrike">
                <a:solidFill>
                  <a:srgbClr val="ffffff"/>
                </a:solidFill>
                <a:latin typeface="Forte"/>
              </a:rPr>
              <a:t>discovering the secret of perpetual motion.</a:t>
            </a: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Forte"/>
              </a:rPr>
              <a:t>He also invented many other machines, songs and boo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Image:Queen Elizabeth II Coronation Medal.png"/>
          <p:cNvPicPr/>
          <p:nvPr/>
        </p:nvPicPr>
        <p:blipFill>
          <a:blip r:embed="rId1"/>
          <a:stretch/>
        </p:blipFill>
        <p:spPr>
          <a:xfrm>
            <a:off x="1908000" y="2205000"/>
            <a:ext cx="1114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700360" y="2781360"/>
            <a:ext cx="405144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 Black"/>
              <a:ea typeface="Bodoni MT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3:34:35Z</dcterms:created>
  <dc:creator>Reservoir District Secondary College</dc:creator>
  <dc:description/>
  <dc:language>en-US</dc:language>
  <cp:lastModifiedBy>Reservoir District Secondary College</cp:lastModifiedBy>
  <dcterms:modified xsi:type="dcterms:W3CDTF">2008-07-28T01:04:02Z</dcterms:modified>
  <cp:revision>8</cp:revision>
  <dc:subject/>
  <dc:title>Slide 1</dc:title>
</cp:coreProperties>
</file>